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ilabre fatimata" initials="pf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<Relationship Id="rId21" Type="http://schemas.openxmlformats.org/officeDocument/2006/relationships/commentAuthors" Target="commentAuthors.xml"/>
</Relationships>
</file>

<file path=ppt/comments/comment9.xml><?xml version="1.0" encoding="utf-8"?>
<p:cmLst xmlns:p="http://schemas.openxmlformats.org/presentationml/2006/main">
  <p:cm authorId="0" dt="2015-06-01T09:41:51.001000000" idx="1">
    <p:pos x="10" y="10"/>
    <p:text/>
  </p:cm>
  <p:cm authorId="0" dt="2015-06-01T09:48:16.910000000" idx="2">
    <p:pos x="10" y="106"/>
    <p:text>Je crois que nous avons mal placé ce dia. peut on ajouter méthodologie dans le titre du dia sinon il vient se placer au mielieu des dia méthodologie 1/2, 2/2  sans être titré métho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4633-4276-4FE8-8594-C06791840F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’expérience du DS de Sebba qui est appuyée par Help et avec le soutien de l’Université de Montréal pour les aspects scientifiq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3E11-686E-4860-B171-57AE69723C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 demande DS Dori de passer au F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 Habitudes de prescriptions non changées (nombre moyen de molécules par ordonnance est de 2,5): parce que les contrôles ont été réalisés (médical et financi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1F54-38E2-4D40-B777-FABEE5B54C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aut : effet immédiat (à l’introduction de l’intervention « FFT ») ET Tendance : effet sur la période (durant la phase étudié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 COMMENTER (L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89A9-9C8B-4281-838F-34841E33B8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 COMMENTER (L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1A4C-8A42-4013-8DEF-4CEA5228F2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Enjeux sur le montant forfaitair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ode de calcul :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acteur qui limite le risque financier des prestata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1F9E-E9C7-4567-9099-0110A10706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3BA0-4BEC-416F-81D2-649FC27400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A2A3-2449-4CAB-8182-6266F77FF0A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emption = équité dans l’accès, filet social (pas de dépenses des ménages en matière de santé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F614-0752-478E-9222-8BA0618121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46DF-25E3-44F7-928B-9ADCF744C9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8152-803E-4DCE-AC83-DA8D476DE1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513A-CBB5-46B7-9EC4-3C1C5C0E8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09EB-D7BB-4792-B875-D8C41EF4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65AA-9642-4A04-BD0D-1FC6D3B50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49BE-435E-4F04-9C2D-41C3FCC19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0E6B-762E-4792-B5A6-E8211FEB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45D5-BF38-4B8E-9A65-68CB00FB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0F87-154C-4381-9E04-FCE8EE66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47BA-2048-4BC3-9501-9A3173ED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5562-3015-40DE-86E7-7AAB1055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ED2A-D8B1-4DA0-9D7C-43B50364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A5B3-3027-46B5-B152-F80F5951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76AB-423A-4EFD-A28F-C55514C8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448D-425A-4F0D-898A-D779EED42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Graph%20Enfants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50560"/>
            <a:ext cx="7772400" cy="17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L’ exemption du paiement des soins au forfait chez les enfants &lt;5ans 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DS Sebb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98989"/>
                </a:solidFill>
                <a:latin typeface="Calibri"/>
              </a:rPr>
              <a:t>Atelier technique AMU « Panier de soins, coût et financement »</a:t>
            </a:r>
            <a:br>
              <a:rPr sz="2800"/>
            </a:br>
            <a:r>
              <a:rPr b="1" lang="fr-FR" sz="2400" spc="-1" strike="noStrike">
                <a:solidFill>
                  <a:srgbClr val="898989"/>
                </a:solidFill>
                <a:latin typeface="Calibri"/>
              </a:rPr>
              <a:t>Ouagadougou, les 9 et 10 juin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mage 2" descr="logoHelpFr"/>
          <p:cNvPicPr/>
          <p:nvPr/>
        </p:nvPicPr>
        <p:blipFill>
          <a:blip r:embed="rId1"/>
          <a:srcRect l="2793" t="1343" r="3911" b="2686"/>
          <a:stretch/>
        </p:blipFill>
        <p:spPr>
          <a:xfrm>
            <a:off x="7620120" y="5410080"/>
            <a:ext cx="115416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1" descr="logo_fr_transp_black"/>
          <p:cNvPicPr/>
          <p:nvPr/>
        </p:nvPicPr>
        <p:blipFill>
          <a:blip r:embed="rId2"/>
          <a:stretch/>
        </p:blipFill>
        <p:spPr>
          <a:xfrm>
            <a:off x="7620120" y="380880"/>
            <a:ext cx="1117440" cy="99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" descr="drapeau:Burkina Faso"/>
          <p:cNvPicPr/>
          <p:nvPr/>
        </p:nvPicPr>
        <p:blipFill>
          <a:blip r:embed="rId3"/>
          <a:stretch/>
        </p:blipFill>
        <p:spPr>
          <a:xfrm>
            <a:off x="380880" y="380880"/>
            <a:ext cx="1190880" cy="784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paho\Desktop\Archives_Interim_20150523\RA FFT\Publications\Note Analyse démarche RA\MenP-G\Nvx_Logos_Mai2015\Logo_EQUITE_jpg-RVB_201505.jpg"/>
          <p:cNvPicPr/>
          <p:nvPr/>
        </p:nvPicPr>
        <p:blipFill>
          <a:blip r:embed="rId4"/>
          <a:stretch/>
        </p:blipFill>
        <p:spPr>
          <a:xfrm>
            <a:off x="3352680" y="5410080"/>
            <a:ext cx="2286000" cy="1089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" descr="armoirie_BF"/>
          <p:cNvPicPr/>
          <p:nvPr/>
        </p:nvPicPr>
        <p:blipFill>
          <a:blip r:embed="rId5"/>
          <a:stretch/>
        </p:blipFill>
        <p:spPr>
          <a:xfrm>
            <a:off x="1136520" y="5297400"/>
            <a:ext cx="836640" cy="9511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990720" y="6313320"/>
            <a:ext cx="113796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MINISTERE DE LA SAN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Résultats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1920" y="91440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aisabilité du paiement au forfait est démontré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ertinence du FFT pour l’ensemble des PP (adhésion des F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habitudes de prescriptions non changé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minution importante de la charge administr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minution des coûts de gestion de la subvention (suppor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tentiel de maitrise des coûts du paiement au F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s effets sur les CMM du Gr1</a:t>
            </a:r>
            <a:br>
              <a:rPr sz="44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(6 CSPS – DS Sebb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20600" y="1314360"/>
            <a:ext cx="8858160" cy="538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1700280" y="1314360"/>
            <a:ext cx="7304040" cy="957240"/>
          </a:xfrm>
          <a:prstGeom prst="rect">
            <a:avLst/>
          </a:prstGeom>
          <a:ln w="0">
            <a:noFill/>
          </a:ln>
        </p:spPr>
      </p:pic>
      <p:cxnSp>
        <p:nvCxnSpPr>
          <p:cNvPr id="93" name="Straight Arrow Connector 8"/>
          <p:cNvCxnSpPr/>
          <p:nvPr/>
        </p:nvCxnSpPr>
        <p:spPr>
          <a:xfrm>
            <a:off x="4723920" y="3200040"/>
            <a:ext cx="1296360" cy="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headEnd len="med" type="arrow" w="med"/>
            <a:tailEnd len="med" type="arrow" w="med"/>
          </a:ln>
        </p:spPr>
      </p:cxnSp>
      <p:sp>
        <p:nvSpPr>
          <p:cNvPr id="94" name="TextBox 9"/>
          <p:cNvSpPr/>
          <p:nvPr/>
        </p:nvSpPr>
        <p:spPr>
          <a:xfrm>
            <a:off x="4724280" y="28306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b050"/>
                </a:solidFill>
                <a:latin typeface="Calibri"/>
              </a:rPr>
              <a:t>FFT S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Straight Arrow Connector 10"/>
          <p:cNvCxnSpPr/>
          <p:nvPr/>
        </p:nvCxnSpPr>
        <p:spPr>
          <a:xfrm>
            <a:off x="6019920" y="3200040"/>
            <a:ext cx="2591280" cy="1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headEnd len="med" type="arrow" w="med"/>
            <a:tailEnd len="med" type="arrow" w="med"/>
          </a:ln>
        </p:spPr>
      </p:cxnSp>
      <p:sp>
        <p:nvSpPr>
          <p:cNvPr id="96" name="TextBox 11"/>
          <p:cNvSpPr/>
          <p:nvPr/>
        </p:nvSpPr>
        <p:spPr>
          <a:xfrm>
            <a:off x="6095880" y="2895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c000"/>
                </a:solidFill>
                <a:latin typeface="Calibri"/>
              </a:rPr>
              <a:t>FFT A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000"/>
                </a:solidFill>
                <a:latin typeface="Calibri"/>
              </a:rPr>
              <a:t>(avec risque financie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s effets sur les CMM du Gr2</a:t>
            </a:r>
            <a:br>
              <a:rPr sz="44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(7 CSPS – DS Sebb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76320" y="1271520"/>
            <a:ext cx="8915400" cy="5407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1444680" y="1295280"/>
            <a:ext cx="7547040" cy="1014480"/>
          </a:xfrm>
          <a:prstGeom prst="rect">
            <a:avLst/>
          </a:prstGeom>
          <a:ln w="0">
            <a:noFill/>
          </a:ln>
        </p:spPr>
      </p:pic>
      <p:cxnSp>
        <p:nvCxnSpPr>
          <p:cNvPr id="100" name="Straight Arrow Connector 8"/>
          <p:cNvCxnSpPr/>
          <p:nvPr/>
        </p:nvCxnSpPr>
        <p:spPr>
          <a:xfrm>
            <a:off x="6095520" y="3112560"/>
            <a:ext cx="1296360" cy="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headEnd len="med" type="arrow" w="med"/>
            <a:tailEnd len="med" type="arrow" w="med"/>
          </a:ln>
        </p:spPr>
      </p:cxnSp>
      <p:sp>
        <p:nvSpPr>
          <p:cNvPr id="101" name="TextBox 9"/>
          <p:cNvSpPr/>
          <p:nvPr/>
        </p:nvSpPr>
        <p:spPr>
          <a:xfrm>
            <a:off x="6095880" y="2743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b050"/>
                </a:solidFill>
                <a:latin typeface="Calibri"/>
              </a:rPr>
              <a:t>FFT S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2" name="Straight Arrow Connector 12"/>
          <p:cNvCxnSpPr/>
          <p:nvPr/>
        </p:nvCxnSpPr>
        <p:spPr>
          <a:xfrm>
            <a:off x="7467120" y="3112560"/>
            <a:ext cx="1296360" cy="1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13"/>
          <p:cNvSpPr/>
          <p:nvPr/>
        </p:nvSpPr>
        <p:spPr>
          <a:xfrm>
            <a:off x="7467480" y="2743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c000"/>
                </a:solidFill>
                <a:latin typeface="Calibri"/>
              </a:rPr>
              <a:t>FFT A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çons apprises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mportance des mesures d’accompagnement (formation des AS, filière MEG, supervision, contrôles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ractualisation très importa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3. Analyse descriptive des CMM (quelque soit le mode de financ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saisonnalité » des C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Variabilité intra/inter CSPS des C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ffets différenciés de l’épidémie de rougeole de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onditions de réuss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21896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njeux sur le montant forfaitaire (son calcu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ationalité des prescriptions (pratiques des AS et disponibilité des ME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Nombre d’hospitalisations (rationalis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bservance des traitements (≠ revisi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mportance des mesures d’accompagnement (formation des AS, filière MEG, supervision, contrôles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mboursement dans les déla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Recommand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férer le FFT vs REEL au regard de ses ava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igueur dans le calcul du montant forfaitair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méthod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Veille « raisonnable » des coûts réel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disponibilité, accessibilité et fiabilité des données, méthod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uplesse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actualisation du FFT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ffectivité du contrôle et de la supervision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inclus l’utilisation de ses résulta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ractualiser le partenaria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férer les préfinancement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 l’exemption (pour éviter les retards de rembours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sentation du DS de Seb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sentation  de l’exem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exte – Just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éthodologie de mise en œuvre du forfa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ésult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çons appri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comman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Présentation du DS de Sebb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23640" y="928440"/>
            <a:ext cx="8391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ion du district sanitaire 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210 88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mbre de FS publiques 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A: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SPS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pensaires isolés 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yon moyen 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on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: 12,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mbre de FS remplissant les normes  minimales en personnel 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résentation de l’exem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240" y="8380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Début: septembre 2008, DS de Dori et Sebb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xemption du paiement des enfants de moins de 5 a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ouverture améliorée donc taux d’utilisation a augmenté (de 0.6 contact/enfant/an à 3.5) entre 2008 et 201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Taux de mortalité diminué de 17% entre 2008 et 2009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Compilation par mois des ordonnances (800 à 1200 par FS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emboursement du coût réel des prestations offertes par les FS sur la base d’une facture adressée au tiers payant via le D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ontexte - Just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ffets +++ (…) de la subvention des soins Enfa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5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ventualité d’un « passage à l’échelle » (PàE) de la « gratuité des soins » des Enfa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5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(PNPS, MS et AM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mboursement au réel complexe à l’échelle nationale ; expérimentation du paiement au « forfait (FFT)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périences des AA/SONU B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0320" y="15480"/>
            <a:ext cx="91440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ircuit de remboursement et contrô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e 48"/>
          <p:cNvGrpSpPr/>
          <p:nvPr/>
        </p:nvGrpSpPr>
        <p:grpSpPr>
          <a:xfrm>
            <a:off x="380880" y="1295280"/>
            <a:ext cx="8454960" cy="4889160"/>
            <a:chOff x="380880" y="1295280"/>
            <a:chExt cx="8454960" cy="4889160"/>
          </a:xfrm>
        </p:grpSpPr>
        <p:sp>
          <p:nvSpPr>
            <p:cNvPr id="66" name="Rectangle 3"/>
            <p:cNvSpPr/>
            <p:nvPr/>
          </p:nvSpPr>
          <p:spPr>
            <a:xfrm>
              <a:off x="380880" y="1295280"/>
              <a:ext cx="1752480" cy="1265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Help ( tiers payant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Rectangle 4"/>
            <p:cNvSpPr/>
            <p:nvPr/>
          </p:nvSpPr>
          <p:spPr>
            <a:xfrm>
              <a:off x="6581880" y="1341000"/>
              <a:ext cx="1828800" cy="12794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District sanitai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( ECD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5"/>
            <p:cNvSpPr/>
            <p:nvPr/>
          </p:nvSpPr>
          <p:spPr>
            <a:xfrm>
              <a:off x="3394080" y="4808520"/>
              <a:ext cx="1981080" cy="1295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CSP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(prestataire des soins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9" name="Connecteur droit avec flèche 7"/>
            <p:cNvCxnSpPr/>
            <p:nvPr/>
          </p:nvCxnSpPr>
          <p:spPr>
            <a:xfrm>
              <a:off x="2441160" y="1736280"/>
              <a:ext cx="38869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" name="Connecteur droit avec flèche 8"/>
            <p:cNvCxnSpPr/>
            <p:nvPr/>
          </p:nvCxnSpPr>
          <p:spPr>
            <a:xfrm flipH="1">
              <a:off x="2459880" y="2449080"/>
              <a:ext cx="38487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" name="Connecteur droit avec flèche 11"/>
            <p:cNvCxnSpPr>
              <a:endCxn id="67" idx="2"/>
            </p:cNvCxnSpPr>
            <p:nvPr/>
          </p:nvCxnSpPr>
          <p:spPr>
            <a:xfrm flipV="1">
              <a:off x="5329080" y="2620440"/>
              <a:ext cx="2167560" cy="2431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2" name="Connecteur droit avec flèche 12"/>
            <p:cNvCxnSpPr/>
            <p:nvPr/>
          </p:nvCxnSpPr>
          <p:spPr>
            <a:xfrm>
              <a:off x="585000" y="2544120"/>
              <a:ext cx="2809080" cy="26679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3" name="ZoneTexte 19"/>
            <p:cNvSpPr/>
            <p:nvPr/>
          </p:nvSpPr>
          <p:spPr>
            <a:xfrm>
              <a:off x="2603160" y="1351080"/>
              <a:ext cx="335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Financ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ZoneTexte 21"/>
            <p:cNvSpPr/>
            <p:nvPr/>
          </p:nvSpPr>
          <p:spPr>
            <a:xfrm rot="2580000">
              <a:off x="419400" y="3892680"/>
              <a:ext cx="27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Contrat De Prest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ZoneTexte 25"/>
            <p:cNvSpPr/>
            <p:nvPr/>
          </p:nvSpPr>
          <p:spPr>
            <a:xfrm>
              <a:off x="3645000" y="173736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Appui Techniqu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ZoneTexte 26"/>
            <p:cNvSpPr/>
            <p:nvPr/>
          </p:nvSpPr>
          <p:spPr>
            <a:xfrm>
              <a:off x="3020040" y="24487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Pièces Justificativ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7" name="Connecteur droit avec flèche 27"/>
            <p:cNvCxnSpPr/>
            <p:nvPr/>
          </p:nvCxnSpPr>
          <p:spPr>
            <a:xfrm flipH="1">
              <a:off x="5374800" y="2728800"/>
              <a:ext cx="2807280" cy="32076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8" name="ZoneTexte 37"/>
            <p:cNvSpPr/>
            <p:nvPr/>
          </p:nvSpPr>
          <p:spPr>
            <a:xfrm rot="18840000">
              <a:off x="5422320" y="3937320"/>
              <a:ext cx="106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Factu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ZoneTexte 42"/>
            <p:cNvSpPr/>
            <p:nvPr/>
          </p:nvSpPr>
          <p:spPr>
            <a:xfrm rot="18720000">
              <a:off x="5026680" y="4058280"/>
              <a:ext cx="427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Approvisionnement des comptes après contrôle, suivi/ Supervis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ZoneTexte 21"/>
          <p:cNvSpPr/>
          <p:nvPr/>
        </p:nvSpPr>
        <p:spPr>
          <a:xfrm rot="2580000">
            <a:off x="680760" y="3508200"/>
            <a:ext cx="30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trôle conjoint ECD + Hel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6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Méthodologie de mise en œuvre du forfait (1/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émarche de la RA/forfa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teliers d’échanges et de réflexion avec les parties prenant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alcul du montant forfaitaire : moyenne arrondie des coûts réels de 6 CSPS sur 30 mois (Jan09-Juin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ntroduction progressive ( avec et sans risque financier): 2 groupes de CS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4136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Méthodologie de mise en œuvre du forfait (2/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172880"/>
            <a:ext cx="8229600" cy="56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ignature de convention entre le tiers payant et les prestataires ( ICP + COG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mptabilisation à partir des registres de consultation/ cahiers de vente journal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aiement mensuel par le tiers pay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inuation des contrôles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a priori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t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a posteriori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ux niveaux CSPS et communaut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ncontres de suiv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omposition du montant forfait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Diagramme 16" descr=""/>
          <p:cNvPicPr/>
          <p:nvPr/>
        </p:nvPicPr>
        <p:blipFill>
          <a:blip r:embed="rId1"/>
          <a:stretch/>
        </p:blipFill>
        <p:spPr>
          <a:xfrm>
            <a:off x="212760" y="1127160"/>
            <a:ext cx="8493120" cy="5445000"/>
          </a:xfrm>
          <a:prstGeom prst="rect">
            <a:avLst/>
          </a:prstGeom>
          <a:ln w="0">
            <a:noFill/>
          </a:ln>
        </p:spPr>
      </p:pic>
      <p:sp>
        <p:nvSpPr>
          <p:cNvPr id="87" name="Explosion 2 3"/>
          <p:cNvSpPr/>
          <p:nvPr/>
        </p:nvSpPr>
        <p:spPr>
          <a:xfrm>
            <a:off x="5791320" y="1219320"/>
            <a:ext cx="3352680" cy="2057400"/>
          </a:xfrm>
          <a:prstGeom prst="irregularSeal2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Toutes les path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4T22:10:59Z</dcterms:created>
  <dc:creator>paho</dc:creator>
  <dc:description/>
  <dc:language>en-US</dc:language>
  <cp:lastModifiedBy>KABORE</cp:lastModifiedBy>
  <dcterms:modified xsi:type="dcterms:W3CDTF">2015-06-08T18:19:27Z</dcterms:modified>
  <cp:revision>126</cp:revision>
  <dc:subject/>
  <dc:title>PowerPoint Presentation</dc:title>
</cp:coreProperties>
</file>